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0338-91AF-4E08-A74B-77ADCDD78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2166-0B66-429D-AC7F-BF0DACBE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EABE-5AF0-4DE2-870B-DF532EE08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7377-E9A5-4588-8308-86EE5302C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2645-3FBC-4E0D-8B35-B5999B4C8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E05C-EC97-4928-A994-1827C058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9F8A-473F-4EF2-90F3-6346E208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BEF0-7641-48D4-A935-FAB6B012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0C41-5632-4B93-AC55-EF6CB43C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F362-938B-4F87-940D-42533784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2FD4-20B8-4C41-A394-D8B31C34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B805-9559-4E99-B42D-FAF2614A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870B-81C7-4AE1-B50F-4A2639F9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B975-37A5-4C99-9FBC-AE18CB2C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E3B0-C9D7-44E5-9E20-335AF1D9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779B-1A05-4550-A39B-CB8120476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EA16-CA78-4AD0-A7CE-918019AA5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3A5D-9777-43D6-908D-78A2F24D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2B4D-176D-4BF9-A512-6D7CB2B3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6A26-04B7-47E8-B9EC-1CB3CED7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9643-C8A4-4DD3-8C4B-8F64AD2B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5359-E548-4325-8C1B-694EBECF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8424-07A8-4160-BA14-5B22F2B9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56B8-FAA6-4926-8BD8-736E4725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1D37-EE95-41C8-A21E-CAC63CC342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C166-F30A-4CB6-B62B-C4FC6ED4EC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b7"/>
                </a:solidFill>
                <a:latin typeface="Arial Black"/>
              </a:rPr>
              <a:t>Page 5</a:t>
            </a:r>
            <a:br>
              <a:rPr sz="8000"/>
            </a:br>
            <a:r>
              <a:rPr b="1" lang="en-US" sz="8000" spc="-1" strike="noStrike">
                <a:solidFill>
                  <a:srgbClr val="ffffb7"/>
                </a:solidFill>
                <a:latin typeface="Arial Black"/>
              </a:rPr>
              <a:t>Avancemos 3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Present tense of    Regular Verb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COMER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ú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É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038480" y="12193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sotros   com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m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osotros    com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é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lo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com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l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38480" y="1447920"/>
            <a:ext cx="0" cy="4724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4419720"/>
            <a:ext cx="838080" cy="1676160"/>
          </a:xfrm>
          <a:custGeom>
            <a:avLst/>
            <a:gdLst>
              <a:gd name="textAreaLeft" fmla="*/ 0 w 838080"/>
              <a:gd name="textAreaRight" fmla="*/ 302760 w 8380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4495680"/>
            <a:ext cx="838440" cy="1676520"/>
          </a:xfrm>
          <a:custGeom>
            <a:avLst/>
            <a:gdLst>
              <a:gd name="textAreaLeft" fmla="*/ 0 w 838440"/>
              <a:gd name="textAreaRight" fmla="*/ 302760 w 8384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The Other -er Verb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898560" y="1422360"/>
            <a:ext cx="6953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Times New Roman"/>
              </a:rPr>
              <a:t>Now let’s do the other -er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Times New Roman"/>
              </a:rPr>
              <a:t>verbs that you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Times New Roman"/>
              </a:rPr>
              <a:t>know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3657600"/>
            <a:ext cx="5715000" cy="0"/>
          </a:xfrm>
          <a:prstGeom prst="line">
            <a:avLst/>
          </a:prstGeom>
          <a:ln w="57240">
            <a:solidFill>
              <a:srgbClr val="ffffb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BEBER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o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eb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ú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eb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Él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eb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14800" y="12193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osotros beb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m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osotros  beb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é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lo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beb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l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1371600"/>
            <a:ext cx="0" cy="4724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4419720"/>
            <a:ext cx="838080" cy="1676160"/>
          </a:xfrm>
          <a:custGeom>
            <a:avLst/>
            <a:gdLst>
              <a:gd name="textAreaLeft" fmla="*/ 0 w 838080"/>
              <a:gd name="textAreaRight" fmla="*/ 302760 w 8380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86400" y="4419720"/>
            <a:ext cx="838080" cy="1676160"/>
          </a:xfrm>
          <a:custGeom>
            <a:avLst/>
            <a:gdLst>
              <a:gd name="textAreaLeft" fmla="*/ 0 w 838080"/>
              <a:gd name="textAreaRight" fmla="*/ 302760 w 8380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0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0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0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LEER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o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ú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Él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114800" y="12193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osotros      le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m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osotros      le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é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lo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l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9880" y="1447920"/>
            <a:ext cx="0" cy="4724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4419720"/>
            <a:ext cx="838080" cy="1676160"/>
          </a:xfrm>
          <a:custGeom>
            <a:avLst/>
            <a:gdLst>
              <a:gd name="textAreaLeft" fmla="*/ 0 w 838080"/>
              <a:gd name="textAreaRight" fmla="*/ 302760 w 8380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4495680"/>
            <a:ext cx="838080" cy="1676520"/>
          </a:xfrm>
          <a:custGeom>
            <a:avLst/>
            <a:gdLst>
              <a:gd name="textAreaLeft" fmla="*/ 0 w 838080"/>
              <a:gd name="textAreaRight" fmla="*/ 302760 w 8380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2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7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2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7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2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7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2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The Verb VER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898560" y="1346040"/>
            <a:ext cx="7711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b7"/>
                </a:solidFill>
                <a:latin typeface="Times New Roman"/>
              </a:rPr>
              <a:t>You also know the verb VER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b7"/>
                </a:solidFill>
                <a:latin typeface="Times New Roman"/>
              </a:rPr>
              <a:t>it is the same as the other </a:t>
            </a:r>
            <a:r>
              <a:rPr b="1" lang="en-US" sz="4800" spc="-1" strike="noStrike">
                <a:solidFill>
                  <a:srgbClr val="ffffb7"/>
                </a:solidFill>
                <a:latin typeface="Times New Roman"/>
              </a:rPr>
              <a:t>-er</a:t>
            </a:r>
            <a:r>
              <a:rPr b="0" lang="en-US" sz="4800" spc="-1" strike="noStrike">
                <a:solidFill>
                  <a:srgbClr val="ffffb7"/>
                </a:solidFill>
                <a:latin typeface="Times New Roman"/>
              </a:rPr>
              <a:t> verbs except in the “yo” form.  It is irregular in the “yo” form.  An arrow will show you the differenc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9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To SEE or To WATCH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ou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h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24280" y="12193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y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1447920"/>
            <a:ext cx="0" cy="4800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6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1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1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6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1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VER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o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e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ú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Él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62160" y="12193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osotro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m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osotros       ve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í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lo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l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76560" y="405000"/>
            <a:ext cx="750600" cy="942480"/>
          </a:xfrm>
          <a:prstGeom prst="line">
            <a:avLst/>
          </a:prstGeom>
          <a:ln w="57240">
            <a:solidFill>
              <a:srgbClr val="ffffb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86200" y="1447920"/>
            <a:ext cx="0" cy="4495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8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3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8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3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8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3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8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3 Types of Verb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ou’ve already learned some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-ar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verbs and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-er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verbs. Now you are going to learn some 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-ir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verb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36280" y="1066680"/>
            <a:ext cx="709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pattern for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-ir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verbs is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exact same pattern fo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-er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verbs except for the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nosotros form: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nstead of using “emos” you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ill use “imos.”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12960" y="1143000"/>
            <a:ext cx="7310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et’s try the verb “to share,”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n Spanish, “compartir.”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-AR Verb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822240" y="1346040"/>
            <a:ext cx="7559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You know the pattern of present-tense -ar verbs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se are the endings: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, as, a, amos, áis, a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or exampl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5486400"/>
            <a:ext cx="25909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TO SHAR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ou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h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ha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379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y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1447920"/>
            <a:ext cx="0" cy="4647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4267080"/>
            <a:ext cx="304560" cy="1905120"/>
          </a:xfrm>
          <a:custGeom>
            <a:avLst/>
            <a:gdLst>
              <a:gd name="textAreaLeft" fmla="*/ 0 w 304560"/>
              <a:gd name="textAreaRight" fmla="*/ 109800 w 30456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4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9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4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9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4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COMPARTIR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o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compart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ú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compart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Él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compart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038480" y="12952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Nosotros compart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imo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osotros     compart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í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d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lo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compart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l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38480" y="1447920"/>
            <a:ext cx="0" cy="4724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4267080"/>
            <a:ext cx="228600" cy="1524240"/>
          </a:xfrm>
          <a:custGeom>
            <a:avLst/>
            <a:gdLst>
              <a:gd name="textAreaLeft" fmla="*/ 0 w 228600"/>
              <a:gd name="textAreaRight" fmla="*/ 82440 w 22860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4191120"/>
            <a:ext cx="1066680" cy="1600200"/>
          </a:xfrm>
          <a:custGeom>
            <a:avLst/>
            <a:gdLst>
              <a:gd name="textAreaLeft" fmla="*/ 0 w 1066680"/>
              <a:gd name="textAreaRight" fmla="*/ 385200 w 10666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1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6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1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6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1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6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98200" y="1422360"/>
            <a:ext cx="51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Times New Roman"/>
              </a:rPr>
              <a:t>Let’s review again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14600" y="3657600"/>
            <a:ext cx="5715000" cy="0"/>
          </a:xfrm>
          <a:prstGeom prst="line">
            <a:avLst/>
          </a:prstGeom>
          <a:ln w="57240">
            <a:solidFill>
              <a:srgbClr val="ffffb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COMER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ú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É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038480" y="12193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sotros   com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m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osotros    com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é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lo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com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l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038480" y="1447920"/>
            <a:ext cx="0" cy="4724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4419720"/>
            <a:ext cx="838080" cy="1676160"/>
          </a:xfrm>
          <a:custGeom>
            <a:avLst/>
            <a:gdLst>
              <a:gd name="textAreaLeft" fmla="*/ 0 w 838080"/>
              <a:gd name="textAreaRight" fmla="*/ 302760 w 8380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10080" y="4495680"/>
            <a:ext cx="838440" cy="1676520"/>
          </a:xfrm>
          <a:custGeom>
            <a:avLst/>
            <a:gdLst>
              <a:gd name="textAreaLeft" fmla="*/ 0 w 838440"/>
              <a:gd name="textAreaRight" fmla="*/ 302760 w 8384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0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5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0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5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0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5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0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5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0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BEBER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o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eb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ú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eb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Él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eb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114800" y="12193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osotros beb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m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osotros  beb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é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lo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beb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l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038480" y="1371600"/>
            <a:ext cx="0" cy="4724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4419720"/>
            <a:ext cx="838080" cy="1676160"/>
          </a:xfrm>
          <a:custGeom>
            <a:avLst/>
            <a:gdLst>
              <a:gd name="textAreaLeft" fmla="*/ 0 w 838080"/>
              <a:gd name="textAreaRight" fmla="*/ 302760 w 8380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86400" y="4419720"/>
            <a:ext cx="838080" cy="1676160"/>
          </a:xfrm>
          <a:custGeom>
            <a:avLst/>
            <a:gdLst>
              <a:gd name="textAreaLeft" fmla="*/ 0 w 838080"/>
              <a:gd name="textAreaRight" fmla="*/ 302760 w 8380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2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2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7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2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7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2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7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LEER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o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ú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Él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114800" y="12193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osotros      le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m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osotros      le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é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lo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l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9880" y="1447920"/>
            <a:ext cx="0" cy="4724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76520" y="4419720"/>
            <a:ext cx="838080" cy="1676160"/>
          </a:xfrm>
          <a:custGeom>
            <a:avLst/>
            <a:gdLst>
              <a:gd name="textAreaLeft" fmla="*/ 0 w 838080"/>
              <a:gd name="textAreaRight" fmla="*/ 302760 w 8380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4495680"/>
            <a:ext cx="838080" cy="1676520"/>
          </a:xfrm>
          <a:custGeom>
            <a:avLst/>
            <a:gdLst>
              <a:gd name="textAreaLeft" fmla="*/ 0 w 838080"/>
              <a:gd name="textAreaRight" fmla="*/ 302760 w 8380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4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9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4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9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4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9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4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9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4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VER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o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e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ú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Él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62160" y="12193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osotro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m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osotros       ve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í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lo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l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76560" y="405000"/>
            <a:ext cx="750600" cy="942480"/>
          </a:xfrm>
          <a:prstGeom prst="line">
            <a:avLst/>
          </a:prstGeom>
          <a:ln w="57240">
            <a:solidFill>
              <a:srgbClr val="ffffb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86200" y="1447920"/>
            <a:ext cx="0" cy="4495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1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6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1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6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1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1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6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1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6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1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COMPARTIR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o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compart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ú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compart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Él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compart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038480" y="12952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Nosotros compart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imo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osotros     compart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í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d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lo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compart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l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38480" y="1447920"/>
            <a:ext cx="0" cy="4724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95280" y="4267080"/>
            <a:ext cx="228600" cy="1524240"/>
          </a:xfrm>
          <a:custGeom>
            <a:avLst/>
            <a:gdLst>
              <a:gd name="textAreaLeft" fmla="*/ 0 w 228600"/>
              <a:gd name="textAreaRight" fmla="*/ 82440 w 22860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4120" y="4191120"/>
            <a:ext cx="1066680" cy="1600200"/>
          </a:xfrm>
          <a:custGeom>
            <a:avLst/>
            <a:gdLst>
              <a:gd name="textAreaLeft" fmla="*/ 0 w 1066680"/>
              <a:gd name="textAreaRight" fmla="*/ 385200 w 10666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3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8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3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8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3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3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8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3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8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3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HABLAR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o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abl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ú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abl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Él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abl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419720" y="13716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sotros   habl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a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osotros    habl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á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d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lo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habl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l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1371600"/>
            <a:ext cx="0" cy="4495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4343400"/>
            <a:ext cx="914400" cy="1600200"/>
          </a:xfrm>
          <a:custGeom>
            <a:avLst/>
            <a:gdLst>
              <a:gd name="textAreaLeft" fmla="*/ 0 w 914400"/>
              <a:gd name="textAreaRight" fmla="*/ 330120 w 9144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4191120"/>
            <a:ext cx="914400" cy="1600200"/>
          </a:xfrm>
          <a:custGeom>
            <a:avLst/>
            <a:gdLst>
              <a:gd name="textAreaLeft" fmla="*/ 0 w 914400"/>
              <a:gd name="textAreaRight" fmla="*/ 330120 w 9144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3 Types of Verb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re are 3 types of verbs: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finitives that end in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-a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finitives that end in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-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finitives that end in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-i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3 Types of Verb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ou’ve already learned some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-ar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verbs, now you are going to learn some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-er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verb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Some </a:t>
            </a: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-er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Verb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ome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-er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verbs that you already know are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eber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e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mer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v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7000" y="1066680"/>
            <a:ext cx="76986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pattern for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-er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verbs is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uch like the pattern fo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-ar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verbs.  The only differenc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s, instead of using “a” you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se “e.”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14040" y="1143000"/>
            <a:ext cx="7207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et’s try the verb “to eat,” i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panish, “comer.”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TO E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ou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h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a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379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y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1447920"/>
            <a:ext cx="0" cy="4647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3T01:13:39Z</dcterms:created>
  <dc:creator>Tom Shirley</dc:creator>
  <dc:description/>
  <dc:language>en-US</dc:language>
  <cp:lastModifiedBy>Local User</cp:lastModifiedBy>
  <cp:lastPrinted>2009-04-22T19:24:48Z</cp:lastPrinted>
  <dcterms:modified xsi:type="dcterms:W3CDTF">2009-08-17T20:29:42Z</dcterms:modified>
  <cp:revision>12</cp:revision>
  <dc:subject/>
  <dc:title>PowerPoint Presentation</dc:title>
</cp:coreProperties>
</file>